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5AF-492D-47CB-8080-09BE656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35F-CC49-4E26-B1AD-C4F61F5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EEF-7BF4-48A7-A9B7-32E25F43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9F1-B0CF-4319-9417-13EB8DEE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482-1628-4708-BB09-96812C0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DB5-7F08-408C-97A8-6104D6C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DEB-F193-498C-8E22-A00BD34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D03-9069-4C07-A92F-21556B1B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E6D-55B5-4B68-8678-F2A03D3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185-8177-42A5-AF77-F6CD234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68C-6323-4684-B18F-AC6DFDE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53F-F1AF-4953-A633-13EA26D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EA4-8144-4C6D-9527-449929663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3;&#1091;&#1090;&#1072;&#1084;&#1080;&#1085;&#1086;&#1074;&#1072;&#1103;_&#1082;&#1080;&#1089;&#1083;&#1086;&#1090;&#1072;" TargetMode="External"/><Relationship Id="rId2" Type="http://schemas.openxmlformats.org/officeDocument/2006/relationships/hyperlink" Target="http://ru.wikipedia.org/wiki/&#1043;&#1083;&#1091;&#1090;&#1072;&#1084;&#1080;&#1085;&#1086;&#1074;&#1072;&#1103;_&#1082;&#1080;&#1089;&#1083;&#1086;&#1090;&#1072;" TargetMode="External"/><Relationship Id="rId3" Type="http://schemas.openxmlformats.org/officeDocument/2006/relationships/hyperlink" Target="http://ru.wikipedia.org/wiki/&#1057;&#1086;&#1103;" TargetMode="External"/><Relationship Id="rId4" Type="http://schemas.openxmlformats.org/officeDocument/2006/relationships/hyperlink" Target="http://ru.wikipedia.org/wiki/&#1055;&#1072;&#1088;&#1084;&#1077;&#1079;&#1072;&#1085;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077;&#1079;&#1085;&#1100;_&#1040;&#1083;&#1100;&#1094;&#1075;&#1077;&#1081;&#1084;&#1077;&#1088;&#1072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Tahoma"/>
              </a:rPr>
              <a:t>презентация ученицы 10 б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Tahoma"/>
              </a:rPr>
              <a:t>Волковой Н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Tahoma"/>
              </a:rPr>
              <a:t>г. Климовск  школа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057400" y="1143000"/>
            <a:ext cx="6553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ищевые добав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80880" y="228600"/>
            <a:ext cx="61056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Химия и продукты пита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15 Дорожка 15.wma" descr=""/>
          <p:cNvPicPr/>
          <p:nvPr/>
        </p:nvPicPr>
        <p:blipFill>
          <a:blip r:embed="rId5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77151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 качестве зелёного красителя используют хлорофилл (Е140), который извлекают из крапив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Краситель свекловичный красный, или бетанин (Е162), представляет собой натуральный экстракт свекловицы (его можно обнаружить во многих продуктах; он, например, может применяться для окрашивания клубничного мороженого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042920" y="333360"/>
            <a:ext cx="49690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лорофил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 rot="5400000">
            <a:off x="5760000" y="3609000"/>
            <a:ext cx="5111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етан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3000"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43308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ирокое распространение нашёл сахарный колер (Е150, карамель), который используют для окрашивания таких популярных напитков, как «Пепси-кола» и «Кока-кол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495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ный краситель добывается из тел бескрылых тел самок насекомых – кошенили. Используется для окраски гистологических препаратов, как пищевой краситель (ликёроводочные, кондитерские, молочные продукты) и парфюмерн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6"/>
          <p:cNvPicPr/>
          <p:nvPr/>
        </p:nvPicPr>
        <p:blipFill>
          <a:blip r:embed="rId1"/>
          <a:stretch/>
        </p:blipFill>
        <p:spPr>
          <a:xfrm>
            <a:off x="212760" y="146160"/>
            <a:ext cx="35672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15 Дорожка 15.wma" descr=""/>
          <p:cNvPicPr/>
          <p:nvPr/>
        </p:nvPicPr>
        <p:blipFill>
          <a:blip r:embed="rId2"/>
          <a:stretch/>
        </p:blipFill>
        <p:spPr>
          <a:xfrm>
            <a:off x="82152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randomBa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45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асны Е102, 110, 121, 124, 127, 150а, 160а,210,211,212, 213, 214, 215, 216, 217, 220, 221, 222, 223, 224, 225, 226, 2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рещены Е103, 105, 106, 111, 120, 125, 126, 130, 152, 171, 4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опасны Е1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ивопоказан при гипертонии Е2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зывает нарушения пищеварения Е221, 224, 226, 338, 340, 341, 407, 450, 453, 455, 456, 461, 462, 463, 46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468360" y="476280"/>
            <a:ext cx="82072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рещенные пищевые добав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9000"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ызывает сыпь Е3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арушает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кожи Е2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вляется причиной крапивницы, слёзотечений, отёков, приступов астмы, головной боли      Е102,110,122,123,124,127,128,129,151, 311,312, 3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539640" y="620640"/>
            <a:ext cx="777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рещенные пищевые добав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comb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6922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я презентация подошла к концу. Просмотрев ее, я надеюсь, вы выделили для себя часть информации необходимую знать каждому челове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йчас важно питаться здоровой ед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дачи Ва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пкого здоровь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и правильного питани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611280" y="692280"/>
            <a:ext cx="7921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шло время прощаться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6" descr="улыбка"/>
          <p:cNvPicPr/>
          <p:nvPr/>
        </p:nvPicPr>
        <p:blipFill>
          <a:blip r:embed="rId1"/>
          <a:stretch/>
        </p:blipFill>
        <p:spPr>
          <a:xfrm>
            <a:off x="6516720" y="3284640"/>
            <a:ext cx="2340000" cy="2025720"/>
          </a:xfrm>
          <a:prstGeom prst="rect">
            <a:avLst/>
          </a:prstGeom>
          <a:ln w="0">
            <a:noFill/>
          </a:ln>
        </p:spPr>
      </p:pic>
    </p:spTree>
  </p:cSld>
  <p:transition advTm="20000">
    <p:fade thruBlk="true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ля презентации я выбрала тему «Пищевые добавки», потому что она на мой взгляд очень актуаль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и людей питание – одно из самых важных процессов в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ждый раз во время  приема пищи возникает вопрос:«А что мы едим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т и меня заинтересовал этот вопро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Я решила углубиться в него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0" y="457200"/>
            <a:ext cx="9144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 презентации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6000"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3960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Основные компоненты пищи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лки, жиры, углеводы, микроэлементы, витамины. Для обеспечения нормальной работы организма необходимо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циональное питание.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льшинство продуктов, прежде чем попасть на наш стол, проходят переработку в условиях пищевого производства (добавление в продукты пищев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бавок)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24360" y="1844640"/>
            <a:ext cx="3276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6e"/>
                </a:solidFill>
                <a:latin typeface="Tahoma"/>
              </a:rPr>
              <a:t>Пищевые добавки 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щества, вводимые в небольших количествах в пищевые продукты для того, чтобы предохранить продукт от порчи, улучшить вкусовые качества и внешний вид пищ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02"/>
          <p:cNvPicPr/>
          <p:nvPr/>
        </p:nvPicPr>
        <p:blipFill>
          <a:blip r:embed="rId1"/>
          <a:stretch/>
        </p:blipFill>
        <p:spPr>
          <a:xfrm>
            <a:off x="3203640" y="5373720"/>
            <a:ext cx="2857320" cy="125892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611280" y="189000"/>
            <a:ext cx="755964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щевые добав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10" descr="IMG_4198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4211640" y="1989000"/>
            <a:ext cx="151272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rip_usilitel_25"/>
          <p:cNvPicPr/>
          <p:nvPr/>
        </p:nvPicPr>
        <p:blipFill>
          <a:blip r:embed="rId5"/>
          <a:stretch/>
        </p:blipFill>
        <p:spPr>
          <a:xfrm>
            <a:off x="6659640" y="4653000"/>
            <a:ext cx="1728720" cy="194004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6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Е 330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цветные кристаллы, широко распространенные в природе. Применяют в фармацевтической и пищевой отрасли промышлен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 качестве кислот, стабилиза-торов). В медицине для консервирования кров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-396720" y="404640"/>
            <a:ext cx="6629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монная 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" name="Picture 5" descr="limon5"/>
          <p:cNvPicPr/>
          <p:nvPr/>
        </p:nvPicPr>
        <p:blipFill>
          <a:blip r:embed="rId2"/>
          <a:stretch/>
        </p:blipFill>
        <p:spPr>
          <a:xfrm>
            <a:off x="5148360" y="5084640"/>
            <a:ext cx="380988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4209"/>
          <p:cNvPicPr/>
          <p:nvPr/>
        </p:nvPicPr>
        <p:blipFill>
          <a:blip r:embed="rId3"/>
          <a:stretch/>
        </p:blipFill>
        <p:spPr>
          <a:xfrm>
            <a:off x="6156360" y="1197000"/>
            <a:ext cx="2746440" cy="3600360"/>
          </a:xfrm>
          <a:prstGeom prst="rect">
            <a:avLst/>
          </a:prstGeom>
          <a:ln w="0">
            <a:noFill/>
          </a:ln>
        </p:spPr>
      </p:pic>
    </p:spTree>
  </p:cSld>
  <p:transition advTm="8000"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4956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51b6e"/>
                </a:solidFill>
                <a:latin typeface="Tahoma"/>
              </a:rPr>
              <a:t>Е 621 –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усилитель вкуса и аромата.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зывает аллергические реакции. Это аминокислота и ее соли участвуют в передаче импульсов в центральной нервной системе, применяются в психиатрии. Вокруг глутамата натрия уже много лет ведутся ожесточенные споры. Американский нейрофизиолог Джон Олни в середине 70-х годов прошлого века обнаружил, что глутамат натрия может вызывать повреждение мозга у крыс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1b6e"/>
                </a:solidFill>
                <a:latin typeface="Tahoma"/>
              </a:rPr>
              <a:t>Вывод: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т усилитель вкуса является причиной болезней пищеварительной системы, таких как гастрит или язва желудка. Исследователи считают, что пища, содержащая много глутамата может вызывать как физическое, так и психическое привыкани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395280" y="333360"/>
            <a:ext cx="770580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утамат нат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24000">
    <p:split dir="in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980720"/>
            <a:ext cx="6336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62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глутамат натр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C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), (мононатриевая соль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глутаминовой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кислот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лутамат натрия содержится в морских водорослях,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оевы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дуктах, а также в дрожжевых экстрактах. В меньших количествах он содержится в помидорах, грибах и сыре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рмеза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468360" y="620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держание глутамата нат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5" descr="IMG_4213"/>
          <p:cNvPicPr/>
          <p:nvPr/>
        </p:nvPicPr>
        <p:blipFill>
          <a:blip r:embed="rId5"/>
          <a:stretch/>
        </p:blipFill>
        <p:spPr>
          <a:xfrm>
            <a:off x="6877080" y="3284640"/>
            <a:ext cx="2266920" cy="3384360"/>
          </a:xfrm>
          <a:prstGeom prst="rect">
            <a:avLst/>
          </a:prstGeom>
          <a:ln w="0">
            <a:noFill/>
          </a:ln>
        </p:spPr>
      </p:pic>
    </p:spTree>
  </p:cSld>
  <p:transition advTm="9000"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которые исследователи связывают с глутаматом натрия воздействие на головной мозг (о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оловной бо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болезни Альцгейме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ухудшение состояния больных бронхиальной астмой, разрушение сетчатки глаза, глаукому. Тем не менее, другие источники указывают на то, что употребление глутамата натрия в пищу в небольших дозах не оказывает воздействия на здоровь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042920" y="476280"/>
            <a:ext cx="6842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употребл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newsflash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41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веществ неорганической природы стоит отметить карбонат кальция 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Е170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,мел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спользуемый в качестве поверхностного красителя для группы твёрдых пищевых продуктов, и диоксид титана 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(Е171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идающий жевательной резинке снежно-белый ц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IMG_4221"/>
          <p:cNvPicPr/>
          <p:nvPr/>
        </p:nvPicPr>
        <p:blipFill>
          <a:blip r:embed="rId2"/>
          <a:stretch/>
        </p:blipFill>
        <p:spPr>
          <a:xfrm>
            <a:off x="6370560" y="3860640"/>
            <a:ext cx="2773440" cy="2584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179280" y="0"/>
            <a:ext cx="54007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бонат кальц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3708360" y="98100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диоксид тита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4000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357360"/>
            <a:ext cx="8218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олучения красных и оранжевых цветов сухих напитков нередко применяют каротины (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Е160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(натуральные и синтетические – комитет ФАО/ВОЗ по пищевым добавкам отнёс каротины к группе красителей, для которых требуются дополнительные исследования по определению физиологических норм потребления) и их производ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395280" y="333360"/>
            <a:ext cx="3743280" cy="19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отин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5" descr="006"/>
          <p:cNvPicPr/>
          <p:nvPr/>
        </p:nvPicPr>
        <p:blipFill>
          <a:blip r:embed="rId3"/>
          <a:stretch/>
        </p:blipFill>
        <p:spPr>
          <a:xfrm>
            <a:off x="4788000" y="189000"/>
            <a:ext cx="2987640" cy="3166920"/>
          </a:xfrm>
          <a:prstGeom prst="rect">
            <a:avLst/>
          </a:prstGeom>
          <a:ln w="0">
            <a:noFill/>
          </a:ln>
        </p:spPr>
      </p:pic>
    </p:spTree>
  </p:cSld>
  <p:transition advTm="13000"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9:38:18Z</dcterms:created>
  <dc:creator>Нина</dc:creator>
  <dc:description/>
  <dc:language>en-US</dc:language>
  <cp:lastModifiedBy>Н.Н.</cp:lastModifiedBy>
  <dcterms:modified xsi:type="dcterms:W3CDTF">2009-01-26T10:58:36Z</dcterms:modified>
  <cp:revision>25</cp:revision>
  <dc:subject/>
  <dc:title> </dc:title>
</cp:coreProperties>
</file>